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1.jpeg" ContentType="image/jpeg"/>
  <Override PartName="/ppt/media/image19.wmf" ContentType="image/x-wmf"/>
  <Override PartName="/ppt/media/image3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45C7-1CB0-419C-B8A8-0E5C474FD09A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5DEC2-2251-4310-BD98-0F70D56A234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514F6-A684-4BD0-A881-D30D15FF2BD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A416B-39EC-438A-AD6B-A7BEE9C2436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A843-8BA9-45D7-BBF9-0EFF8A2FB4D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FD036-579B-4424-9A6C-593169615CE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6FAFF-83F8-4AEF-9BBC-C459D0046C0E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1D12-2E80-43AC-A789-7148172FAA8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BE2A-B06C-48E8-A396-9E9D3B111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552-FE68-4288-ACB7-083F211F4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2C1C-CCDF-4E54-8E14-5A17DD7E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74D03-0FD4-44DC-A16A-B8544FA4C8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3995D-8990-4AF9-BB29-2A38B8CB9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E4FD-1253-4C8D-8184-7246C1BE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3DE-CBCA-49F4-A86F-A943E134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975C-2BE2-450E-B372-82F1A1C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270CC-D8DD-4C8B-96F5-D4C17D2B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8C69F-D9FA-42F7-8B71-C4119B43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F5D7-8CD0-4236-A074-70194BE78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19524-D17F-4912-A54E-09F28029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08881-57ED-45A7-BCD6-DC769AD75A9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Junho/2020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2"/>
          <p:cNvSpPr/>
          <p:nvPr/>
        </p:nvSpPr>
        <p:spPr>
          <a:xfrm>
            <a:off x="334800" y="82440"/>
            <a:ext cx="10801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48828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423720" y="730080"/>
            <a:ext cx="11344320" cy="539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-57240" y="0"/>
            <a:ext cx="1219212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"/>
          <p:cNvSpPr/>
          <p:nvPr/>
        </p:nvSpPr>
        <p:spPr>
          <a:xfrm>
            <a:off x="351000" y="646920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Imagem 1" descr=""/>
          <p:cNvPicPr/>
          <p:nvPr/>
        </p:nvPicPr>
        <p:blipFill>
          <a:blip r:embed="rId1"/>
          <a:stretch/>
        </p:blipFill>
        <p:spPr>
          <a:xfrm>
            <a:off x="2228760" y="1052640"/>
            <a:ext cx="7734240" cy="4752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263520" y="0"/>
            <a:ext cx="108014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cumulado nos últimos 12 meses -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263520" y="648324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Imagem 1" descr=""/>
          <p:cNvPicPr/>
          <p:nvPr/>
        </p:nvPicPr>
        <p:blipFill>
          <a:blip r:embed="rId1"/>
          <a:stretch/>
        </p:blipFill>
        <p:spPr>
          <a:xfrm>
            <a:off x="2228760" y="1157400"/>
            <a:ext cx="7734240" cy="454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TENDÊNCIA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, DESPESA E NECESSIDADE DE FINANCIAMENT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2"/>
          <p:cNvSpPr/>
          <p:nvPr/>
        </p:nvSpPr>
        <p:spPr>
          <a:xfrm>
            <a:off x="0" y="63360"/>
            <a:ext cx="121921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 e Despesa com Benefícios Previdenciários, nos últimos 25 mes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–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4995720" y="112248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63360" y="6235560"/>
            <a:ext cx="556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1528920" y="711360"/>
            <a:ext cx="9134280" cy="5395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0" y="147600"/>
            <a:ext cx="12134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Arrecadação Líqui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Corrente, Recuperação de Créditos e Transferência a Terceiros, nos últimos 25 meses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Text Box 3"/>
          <p:cNvSpPr/>
          <p:nvPr/>
        </p:nvSpPr>
        <p:spPr>
          <a:xfrm>
            <a:off x="61920" y="6257880"/>
            <a:ext cx="670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Imagem 1" descr=""/>
          <p:cNvPicPr/>
          <p:nvPr/>
        </p:nvPicPr>
        <p:blipFill>
          <a:blip r:embed="rId1"/>
          <a:stretch/>
        </p:blipFill>
        <p:spPr>
          <a:xfrm>
            <a:off x="1528920" y="1082520"/>
            <a:ext cx="9134280" cy="491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0" y="28440"/>
            <a:ext cx="1219212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80"/>
                </a:solidFill>
                <a:latin typeface="Arial"/>
                <a:ea typeface="Arial Unicode MS"/>
              </a:rPr>
              <a:t>Composição da Despesa com Benefícios Previdenciári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Pagos pelo INSS e Sentenças Judiciais nos últimos 25 mese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– Em R$ bilhões de Junho/2020 (INP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Imagem 1" descr=""/>
          <p:cNvPicPr/>
          <p:nvPr/>
        </p:nvPicPr>
        <p:blipFill>
          <a:blip r:embed="rId1"/>
          <a:stretch/>
        </p:blipFill>
        <p:spPr>
          <a:xfrm>
            <a:off x="1528920" y="1049400"/>
            <a:ext cx="99057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52560" y="104760"/>
            <a:ext cx="12139560" cy="65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2000"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a Previdência Social nos últimos 25 meses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Text Box 3"/>
          <p:cNvSpPr/>
          <p:nvPr/>
        </p:nvSpPr>
        <p:spPr>
          <a:xfrm>
            <a:off x="52560" y="6464160"/>
            <a:ext cx="556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Imagem 1" descr=""/>
          <p:cNvPicPr/>
          <p:nvPr/>
        </p:nvPicPr>
        <p:blipFill>
          <a:blip r:embed="rId1"/>
          <a:stretch/>
        </p:blipFill>
        <p:spPr>
          <a:xfrm>
            <a:off x="804960" y="873000"/>
            <a:ext cx="10352160" cy="499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2"/>
          <p:cNvSpPr/>
          <p:nvPr/>
        </p:nvSpPr>
        <p:spPr>
          <a:xfrm>
            <a:off x="0" y="139680"/>
            <a:ext cx="121921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por Clientela – Média móvel de 12 mes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–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/2020 - INPC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Imagem 1" descr=""/>
          <p:cNvPicPr/>
          <p:nvPr/>
        </p:nvPicPr>
        <p:blipFill>
          <a:blip r:embed="rId1"/>
          <a:stretch/>
        </p:blipFill>
        <p:spPr>
          <a:xfrm>
            <a:off x="544680" y="896760"/>
            <a:ext cx="10814040" cy="514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66600" y="0"/>
            <a:ext cx="1204272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 – Média móvel de 12 mese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(Janeiro/2011 a Junho/2020)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bilhões de Junho/2020 (INPC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334800" y="6464160"/>
            <a:ext cx="677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Imagem 1" descr=""/>
          <p:cNvPicPr/>
          <p:nvPr/>
        </p:nvPicPr>
        <p:blipFill>
          <a:blip r:embed="rId1"/>
          <a:stretch/>
        </p:blipFill>
        <p:spPr>
          <a:xfrm>
            <a:off x="1528920" y="763560"/>
            <a:ext cx="10156680" cy="52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URBAN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BENEFÍCIOS EMITIDO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(ESTOQU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2"/>
          <p:cNvSpPr/>
          <p:nvPr/>
        </p:nvSpPr>
        <p:spPr>
          <a:xfrm>
            <a:off x="0" y="0"/>
            <a:ext cx="12192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700" spc="-1" strike="noStrike">
                <a:solidFill>
                  <a:srgbClr val="000000"/>
                </a:solidFill>
                <a:latin typeface="Arial"/>
                <a:ea typeface="Arial Unicode MS"/>
              </a:rPr>
              <a:t>Quantidade de Benefícios Emitidos Administrados pelo INSS –</a:t>
            </a:r>
            <a:r>
              <a:rPr b="1" lang="pt-BR" sz="1700" spc="-1" strike="noStrike">
                <a:solidFill>
                  <a:srgbClr val="cc0000"/>
                </a:solidFill>
                <a:latin typeface="Arial"/>
                <a:ea typeface="Arial Unicode MS"/>
              </a:rPr>
              <a:t> Junho/2019, Maio/2020 e Junho/2020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 Box 3"/>
          <p:cNvSpPr/>
          <p:nvPr/>
        </p:nvSpPr>
        <p:spPr>
          <a:xfrm>
            <a:off x="334800" y="6502320"/>
            <a:ext cx="1080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o Ministério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Imagem 2" descr=""/>
          <p:cNvPicPr/>
          <p:nvPr/>
        </p:nvPicPr>
        <p:blipFill>
          <a:blip r:embed="rId1"/>
          <a:stretch/>
        </p:blipFill>
        <p:spPr>
          <a:xfrm>
            <a:off x="503280" y="433440"/>
            <a:ext cx="11166480" cy="56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0" y="541440"/>
            <a:ext cx="12192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11 e Junho de 2020, a quantidade de benefícios previdenciários e acidentários emitidos pela Previdência aumentou 22,7%, passando de 25,2 milhões para 30,9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4680" y="122400"/>
            <a:ext cx="1218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volução da Quantidade de Benefícios Emitidos pelo INSS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milhões de benefícios - 2011 a 2019 (dezembro), 2020 (Junh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 Box 4"/>
          <p:cNvSpPr/>
          <p:nvPr/>
        </p:nvSpPr>
        <p:spPr>
          <a:xfrm>
            <a:off x="0" y="6026040"/>
            <a:ext cx="781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responsabilidade da Cidadania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Imagem 1" descr=""/>
          <p:cNvPicPr/>
          <p:nvPr/>
        </p:nvPicPr>
        <p:blipFill>
          <a:blip r:embed="rId1"/>
          <a:stretch/>
        </p:blipFill>
        <p:spPr>
          <a:xfrm>
            <a:off x="260280" y="998640"/>
            <a:ext cx="11744280" cy="4906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0" y="60480"/>
            <a:ext cx="121093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Valor Médio Real dos Benefícios Pagos pelo INSS (2013 a 2020)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Média de Janeiro a Junho de cada ano – Em R$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366840" y="546120"/>
            <a:ext cx="115441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  <a:ea typeface="Arial Unicode MS"/>
              </a:rPr>
              <a:t>O valor médio real dos benefícios da Previdência Social atingiu R$ 1.650,81 na média de Janeiro a Junho de 2020, o que representou um crescimento de 27,4% em relação ao mesmo período de 2013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27,4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Line 5"/>
          <p:cNvSpPr/>
          <p:nvPr/>
        </p:nvSpPr>
        <p:spPr>
          <a:xfrm flipV="1">
            <a:off x="3187800" y="5229360"/>
            <a:ext cx="3375000" cy="6336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Line 6"/>
          <p:cNvSpPr/>
          <p:nvPr/>
        </p:nvSpPr>
        <p:spPr>
          <a:xfrm flipH="1">
            <a:off x="7608960" y="2558880"/>
            <a:ext cx="3271680" cy="253368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92240" y="6311880"/>
            <a:ext cx="8610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4" name="Imagem 1" descr=""/>
          <p:cNvPicPr/>
          <p:nvPr/>
        </p:nvPicPr>
        <p:blipFill>
          <a:blip r:embed="rId1"/>
          <a:stretch/>
        </p:blipFill>
        <p:spPr>
          <a:xfrm>
            <a:off x="444600" y="1249200"/>
            <a:ext cx="11299680" cy="482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09440" y="6080040"/>
            <a:ext cx="76089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s: DATAPREV, SUB, SINTESE.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4729320" y="1585800"/>
            <a:ext cx="5545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7,3% dos benefícios pagos pelo INSS em Junho/2020 possuíam o valor de até um salário mínimo, o que representa um contingente de 24,1 milhões de beneficiários direto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ctangle 6"/>
          <p:cNvSpPr/>
          <p:nvPr/>
        </p:nvSpPr>
        <p:spPr>
          <a:xfrm>
            <a:off x="384120" y="16344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Distribuição de Benefícios Emitidos, segundo faixas de Valore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</a:t>
            </a:r>
            <a:br>
              <a:rPr sz="2400"/>
            </a:b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Arial Unicode MS"/>
              </a:rPr>
              <a:t>Em Pisos Previdenciários (Posição Junho/2020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Imagem 1" descr=""/>
          <p:cNvPicPr/>
          <p:nvPr/>
        </p:nvPicPr>
        <p:blipFill>
          <a:blip r:embed="rId1"/>
          <a:stretch/>
        </p:blipFill>
        <p:spPr>
          <a:xfrm>
            <a:off x="217440" y="763560"/>
            <a:ext cx="11628360" cy="51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0" y="6984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6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181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299880" y="1219320"/>
            <a:ext cx="1159200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0" y="0"/>
            <a:ext cx="12192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0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URBANO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2406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299880" y="1209600"/>
            <a:ext cx="11592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 DESPESA COM BENEFÍCIOS E RESULTADO PREVIDENCIÁRIO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00"/>
                </a:solidFill>
                <a:latin typeface="Arial"/>
                <a:ea typeface="Arial Unicode MS"/>
              </a:rPr>
              <a:t>RU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2"/>
          <p:cNvSpPr/>
          <p:nvPr/>
        </p:nvSpPr>
        <p:spPr>
          <a:xfrm>
            <a:off x="0" y="0"/>
            <a:ext cx="121921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9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8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de Junho/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76320" y="605808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781200" y="1552680"/>
            <a:ext cx="10629720" cy="37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0" y="87480"/>
            <a:ext cx="121921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4000"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Arrecadação Líquida, Despesa com Benefícios e Resultado Previdenciários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Arial Unicode MS"/>
              </a:rPr>
              <a:t>RURAL</a:t>
            </a:r>
            <a:r>
              <a:rPr b="1" lang="pt-BR" sz="1600" spc="-1" strike="noStrike" u="sng">
                <a:solidFill>
                  <a:srgbClr val="000000"/>
                </a:solidFill>
                <a:uFillTx/>
                <a:latin typeface="Arial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Janeiro a Junho (2019 e 2020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1722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781200" y="1571760"/>
            <a:ext cx="10629720" cy="37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8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12840" y="63360"/>
            <a:ext cx="108010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RESULTADO DO RG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Em R$ milhões de Junho de 2020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0" y="6289560"/>
            <a:ext cx="57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Fonte: Fluxo de Caixa INSS; Informar/DATAPREV.  Elaboração: SPREV/ME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900" spc="-1" strike="noStrike">
                <a:solidFill>
                  <a:srgbClr val="000000"/>
                </a:solidFill>
                <a:latin typeface="Arial"/>
              </a:rPr>
              <a:t>Nota: O dado de Renúncia Previdenciária é uma estimativa da Receita Federal do Brasil, sujeito a alteração.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423720" y="771480"/>
            <a:ext cx="11344320" cy="5327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Colegiado</cp:lastModifiedBy>
  <dcterms:modified xsi:type="dcterms:W3CDTF">2020-07-29T19:19:46Z</dcterms:modified>
  <cp:revision>47</cp:revision>
  <dc:subject/>
  <dc:title>Apresentação do PowerPoint</dc:title>
</cp:coreProperties>
</file>